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6E4-87B6-482C-948C-DF8346F4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AD8-21AD-44E6-B972-46B690E1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51CA-CF3B-417A-B230-67960CB7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74DA-A60B-4B54-A651-9AC14320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69A7-A3B4-4FE5-BB4F-65496EF7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2AC-68D8-4683-AFDF-70C78DC7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9F5-D5F2-4AE6-A910-619295DF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A894-0B13-41C4-A5F3-6D109423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00FA-6824-4309-9821-36B28E9F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23E-16F5-4D9C-B7D0-E0099530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A4DD-E31F-42AE-9223-6FED7582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1367-B247-4E89-8AA6-F7B101AC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EEB8-DDD4-4F35-BE06-395666D1E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696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31680" y="5210280"/>
            <a:ext cx="69840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ENTENN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ELLA FACOLTA’ DI MEDICINA E CHIRU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Udine, 28 novembr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ISCRITTI FACOLTÁ DI MEDICINA E CHIRURGIA</a:t>
            </a:r>
            <a:br>
              <a:rPr sz="2400"/>
            </a:b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ANNI ACCADEMICI 2000/2001 – 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48836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ISCRITTI FACOLTÁ DI MEDICINA E CHIRURGIA</a:t>
            </a:r>
            <a:br>
              <a:rPr sz="2400"/>
            </a:b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ANNO ACCADEMICO 2005-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187280" y="1413000"/>
          <a:ext cx="6769440" cy="461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413000"/>
                    <a:ext cx="676944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042920" y="6237360"/>
            <a:ext cx="43200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6165720"/>
            <a:ext cx="1366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so di laurea 6 an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59280" y="6237360"/>
            <a:ext cx="431640" cy="71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6165720"/>
            <a:ext cx="1366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auree trienn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18200" y="6237360"/>
            <a:ext cx="431640" cy="7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6165720"/>
            <a:ext cx="13665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auree triennali interfacolt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6524640"/>
            <a:ext cx="432000" cy="71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76360" y="6453360"/>
            <a:ext cx="13669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auree specialistic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6524640"/>
            <a:ext cx="431640" cy="71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92360" y="6453360"/>
            <a:ext cx="13669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auree specialistiche interfacolt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ISCRITTI STRANIERI</a:t>
            </a:r>
            <a:br>
              <a:rPr sz="2400"/>
            </a:b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ANNI ACCADEMICI 2000/2001 - 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>
            <a:alphaModFix amt="75000"/>
          </a:blip>
          <a:stretch/>
        </p:blipFill>
        <p:spPr>
          <a:xfrm>
            <a:off x="684360" y="1268280"/>
            <a:ext cx="813744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DOCENTI FACOLTA’ DI MEDICINA E CHIRURGIA 1996 -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84360" y="1682640"/>
          <a:ext cx="7991280" cy="4770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682640"/>
                    <a:ext cx="799128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DOTTORATI DI RICERCA</a:t>
            </a:r>
            <a:br>
              <a:rPr sz="2400"/>
            </a:b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ANNI ACCADEMICI 1994/1995 - 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669600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22816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LE TAPPE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DELLA FACOLTA’ DI MEDICINA E CHIRURGIA</a:t>
            </a:r>
            <a:br>
              <a:rPr sz="2400"/>
            </a:b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989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1964: </a:t>
            </a: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l’Ordine dei Medici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 Udine chiede l’istituzione della Facoltà d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edicina e chiru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1965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edicina viene istituita a Trie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1977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 la nascita dell’università di Udine ricomincia la battaglia per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istituzione di Medicina da parte del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Comitato per l’università </a:t>
            </a: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friul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1982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la legge 828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stituisce la facoltà di Medicina e chirurgia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l’Università degli Studi di Udine. Viene costituito il Comitat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ecnico ordinatore formato da Paolo Fusaroli, Pier Giusepp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vese e Gaetano Salva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1985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Senato accademico approva lo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statuto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lla Facol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1986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avvio ufficiale dei corsi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 sei professori fondatori Fabrizi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resadola, Pietro Enrico di Prampero, Silvestro Formisano,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rancesco Ambesi Impiombato, Franco Quadrifoglio e Franc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llardi costituiscono il primo Consiglio di facoltà ed eleggono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imo preside (Ambesi Impiombato) che tiene la prima lezione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 nove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I PRESIDI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DELLA FACOLTA’ DI MEDICINA E CHIRURGIA</a:t>
            </a:r>
            <a:br>
              <a:rPr sz="24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01440" y="2772360"/>
            <a:ext cx="77169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986 - 1989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rancesco Saverio Ambesi Impiomb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989 – 1994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ietro Enrico di Pramp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994 – 1999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abrizio Bresad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999 – 2005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ranco Quadrifog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2005 - ogg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assimo Pol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LAUREATI E DIPLOMATI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FACOLTÁ DI MEDICINA E CHIRURGIA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ANNI ACCADEMICI 1991/1992 – 2005/2006*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1484280"/>
          <a:ext cx="8459640" cy="4956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484280"/>
                    <a:ext cx="845964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39640" y="6453360"/>
            <a:ext cx="8280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*dati parziali in quanto la sessione straordinaria si deve ancora svolgere (febbraio-aprile 2007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LAUREATI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CORSO DI LAUREA IN MEDICINA E CHIRURGIA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ANNI ACCADEMICI 1991/1992 – 2005/2006*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6453360"/>
            <a:ext cx="8280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*dati parziali in quanto la sessione straordinaria si deve ancora svolgere (febbraio-aprile 2007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55640" y="1341360"/>
          <a:ext cx="8064360" cy="5011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341360"/>
                    <a:ext cx="8064360" cy="50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LAUREATI CORSI DI LAUREA TRIENNALE </a:t>
            </a:r>
            <a:br>
              <a:rPr sz="2400"/>
            </a:b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ANNI ACCADEMICI 2002/2003 – 2005/2006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5280" y="1800360"/>
          <a:ext cx="8497800" cy="4005000"/>
        </p:xfrm>
        <a:graphic>
          <a:graphicData uri="http://schemas.openxmlformats.org/drawingml/2006/table">
            <a:tbl>
              <a:tblPr/>
              <a:tblGrid>
                <a:gridCol w="2840040"/>
                <a:gridCol w="627120"/>
                <a:gridCol w="630360"/>
                <a:gridCol w="628560"/>
                <a:gridCol w="628560"/>
                <a:gridCol w="628560"/>
                <a:gridCol w="628920"/>
                <a:gridCol w="588960"/>
                <a:gridCol w="576000"/>
                <a:gridCol w="7207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si di laurea trien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-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-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-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-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-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-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ioterap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ermieristica, sede Porde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ermieristica, sede U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ermieristica, sede Me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tetr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ienze motor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niche di laboratorio biomed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niche di neurofisiopat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niche di radiologia med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ienze motorie (interfacoltà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cazione professionale (interfacoltà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tecnologie (interfacoltà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539640" y="6453360"/>
            <a:ext cx="8280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*dati parziali in quanto la sessione straordinaria si deve ancora svolgere (febbraio-aprile 2007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LAUREATI CORSI DI LAUREA SPECIALISTICA </a:t>
            </a:r>
            <a:br>
              <a:rPr sz="2400"/>
            </a:b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ANNO ACCADEMICO 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63640" y="2997360"/>
          <a:ext cx="6192720" cy="1439280"/>
        </p:xfrm>
        <a:graphic>
          <a:graphicData uri="http://schemas.openxmlformats.org/drawingml/2006/table">
            <a:tbl>
              <a:tblPr/>
              <a:tblGrid>
                <a:gridCol w="3720960"/>
                <a:gridCol w="823680"/>
                <a:gridCol w="824040"/>
                <a:gridCol w="82404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si di laurea specialist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-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-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enza dello spor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DIPLOMATI (VECCHIO ORDINAMENTO)</a:t>
            </a:r>
            <a:br>
              <a:rPr sz="2400"/>
            </a:b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ANNI ACCADEMICI 1995/1996 - 2001/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11280" y="2060640"/>
          <a:ext cx="8353080" cy="4224240"/>
        </p:xfrm>
        <a:graphic>
          <a:graphicData uri="http://schemas.openxmlformats.org/drawingml/2006/table">
            <a:tbl>
              <a:tblPr/>
              <a:tblGrid>
                <a:gridCol w="2491560"/>
                <a:gridCol w="732960"/>
                <a:gridCol w="732600"/>
                <a:gridCol w="733320"/>
                <a:gridCol w="731160"/>
                <a:gridCol w="732600"/>
                <a:gridCol w="733320"/>
                <a:gridCol w="732600"/>
                <a:gridCol w="732960"/>
              </a:tblGrid>
              <a:tr h="47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si di diploma (vecchio ord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-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-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-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-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-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-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5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ioterap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5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ermiere (P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5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ermiere (U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5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ermiere (Mestr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5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tetrica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5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niche di neurofisiopat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nico sanitario di laboratorio biomed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nico sanitario di radiologia med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5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apisti della riabilit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1:40:21Z</dcterms:created>
  <dc:creator>Università di Udine</dc:creator>
  <dc:description/>
  <dc:language>en-US</dc:language>
  <cp:lastModifiedBy>UNIUD</cp:lastModifiedBy>
  <dcterms:modified xsi:type="dcterms:W3CDTF">2006-11-27T10:31:10Z</dcterms:modified>
  <cp:revision>183</cp:revision>
  <dc:subject/>
  <dc:title>Nessun titolo diapositiva</dc:title>
</cp:coreProperties>
</file>